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843028C-F3BD-44C3-A186-BD33FB1EB717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21BE8C4-57DC-4A41-A5BB-DDCC932AB0EE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cm98\Brazil\Sovereign\Banco Central\rdshgs.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BD81462-86C9-4BAA-AB68-1CDFAC359B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2117A2F-0E25-4DDF-8CE8-8065ECB502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8984DD9-CEED-424C-8065-1436C2E95D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</a:rPr>
              <a:t>Taxa de desconto média ponderada pelo valor (Cielo e Redec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idera cartões de crédito e de débito: cálculo pela lucrativid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B53C343-D2C3-4F4B-9195-9AFA3C73B5F1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386B6CB-BC88-4648-9C81-687E5A7F2BCB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7CAAE33-BAD4-4219-9E92-4677FE4FC3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ED35C40-F2ED-4534-8953-C879B491998C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 de anuidade Hipercard = 0 (z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E94E45C-4BB2-4BD6-9C02-E542609B55F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6E4D8B1-EB66-4C87-B327-17AE58CFAEE1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CA6D898-BF7B-4F0D-B67A-71C600B972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68272CD-CD9A-4F6D-B9F0-A3317D2D95D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47AF522-EC3F-4FF4-97B8-9F7504DC161B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99EA90E-0D73-40F6-A358-B98E70988F5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21D287D-EA5C-4F3C-A30F-2C2E33659D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CAEBBAE-0499-45E9-ABB0-87DB020A3FA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6332C51-9FDA-4BE2-B5F1-2CDF71BBA8DF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9118386-F861-4837-92AD-F277E5111D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B4FBC26-45A8-4FC8-AC07-3330E9D23FA4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FE5C21-D97B-45CE-B39E-A82BC38B01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45713DD-C154-41EC-B121-DB131B9359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580DE12-E465-427E-B3F7-985028A4DB3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0DA5946-4F33-4E7E-BCB8-86BFE9BABC77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314E45D-7F7B-407F-9F9B-821C1C2950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D1AE25E-05C4-4E5A-B4CA-21C19FF55A13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944C1F4-05AB-4FA0-B15D-90E92CD34D10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CC250E5-8EA3-4542-8556-02C7D87B3B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A5059C2-334D-4E3F-B763-2C4893505EE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F36357B-7FE2-423B-892F-10F23CA5FF59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D8B0853-A153-41FB-A7B8-9F1359EA8E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26912CA-A8BF-41FA-81DE-E61308CCAF10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2745CE-34DA-496A-B87E-9AFDF5047542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CD56368-6A1F-4B0C-9CB1-28E9958133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8A7BF9D-9E25-4B7B-8E9C-4E2678BB3132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CBC3C0C-C37E-4B4A-BF68-C2488B8C90BC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8:37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2AE9ACF-F178-402D-A5E7-2120EC79DC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820D-14BF-4891-8AEF-B86B18BD6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3670-EC25-4FEF-8FEA-03884D1CFA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974B-BF30-4699-A32F-D95A1A1F37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18C2-C43B-41FE-A577-C70D5E69E0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2AC8-F910-4E15-A86E-9C4E583615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D317-833A-4766-B75B-F3BF8413E3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ECD4-ED4C-41B3-839B-50FBCFC62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0D66-30A0-4B46-8632-DE01779A6F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8CE0-BA20-4833-ADD4-F403310C4F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C114-FAC4-4336-99E8-A5ED8A04B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CD00-3BFC-47F0-A9A1-094B89EF38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B735-BFF4-4620-97E4-60DAD22A1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8AA0E1-3A63-40F8-B60F-191C95112435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CFD1C1-D1F7-4C06-BCBE-932C3B48DFC4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432280" y="107640"/>
            <a:ext cx="567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33C-EE20-4D69-ACC1-0A274190139F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897200"/>
            <a:ext cx="899964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issão de Desenvolvimento Econômico, Indústria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ércio da Câmara dos Dep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udiência Pública - Atuação do Segmento de Cartão de Crédito n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1280" y="5037120"/>
            <a:ext cx="907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gresso - Brasília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julho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 – aluguel mé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3360" y="1249200"/>
            <a:ext cx="902988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5"/>
          <p:cNvSpPr/>
          <p:nvPr/>
        </p:nvSpPr>
        <p:spPr>
          <a:xfrm>
            <a:off x="4430880" y="1177920"/>
            <a:ext cx="3587760" cy="4613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809640" y="1177920"/>
            <a:ext cx="3621240" cy="4633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66760" y="1036800"/>
            <a:ext cx="857232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do mercad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tinação da taxa de desc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1444-9A6A-4704-986C-F99A9002AC31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550200" cy="3765600"/>
          </a:xfrm>
          <a:prstGeom prst="rect">
            <a:avLst/>
          </a:prstGeom>
          <a:ln w="0">
            <a:noFill/>
          </a:ln>
        </p:spPr>
      </p:pic>
      <p:sp>
        <p:nvSpPr>
          <p:cNvPr id="126" name="Chave esquerda 11"/>
          <p:cNvSpPr/>
          <p:nvPr/>
        </p:nvSpPr>
        <p:spPr>
          <a:xfrm>
            <a:off x="1042920" y="1700280"/>
            <a:ext cx="216000" cy="29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952720"/>
              <a:gd name="textAreaBottom" fmla="*/ 2947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ixaDeTexto 12" descr=""/>
          <p:cNvPicPr/>
          <p:nvPr/>
        </p:nvPicPr>
        <p:blipFill>
          <a:blip r:embed="rId2"/>
          <a:stretch/>
        </p:blipFill>
        <p:spPr>
          <a:xfrm>
            <a:off x="609480" y="1773360"/>
            <a:ext cx="408240" cy="2805120"/>
          </a:xfrm>
          <a:prstGeom prst="rect">
            <a:avLst/>
          </a:prstGeom>
          <a:ln w="0">
            <a:noFill/>
          </a:ln>
        </p:spPr>
      </p:pic>
      <p:pic>
        <p:nvPicPr>
          <p:cNvPr id="128" name="CaixaDeTexto 13" descr=""/>
          <p:cNvPicPr/>
          <p:nvPr/>
        </p:nvPicPr>
        <p:blipFill>
          <a:blip r:embed="rId3"/>
          <a:stretch/>
        </p:blipFill>
        <p:spPr>
          <a:xfrm>
            <a:off x="7881840" y="2779560"/>
            <a:ext cx="55584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Chave direita 14"/>
          <p:cNvSpPr/>
          <p:nvPr/>
        </p:nvSpPr>
        <p:spPr>
          <a:xfrm>
            <a:off x="7524720" y="285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728720"/>
              <a:gd name="textAreaBottom" fmla="*/ 17233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1280" y="819000"/>
            <a:ext cx="9001440" cy="5408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108000" bIns="0" anchor="ctr">
            <a:normAutofit/>
          </a:bodyPr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Resolução nº 3.919, de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adronização dos serviç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mplificação de tarifas ao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Majoração de preços após 365 dias do último valor divul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Divulgação e clareza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Planos de recompensa ou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Detalhamento de encargos e custo efetivo to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Encaminhamento de cartão de crédito somente a expressa solicitação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ossibilidade de cancelamento temp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Circular nº 3.512,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Limitação do valor do rotativo em relação ao total da f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Maior transparência para o consumidor em relação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s, encargos financeiros , obrigações e dire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ndividamento mais restrito por meio do cartão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Número de Slide 7"/>
          <p:cNvSpPr/>
          <p:nvPr/>
        </p:nvSpPr>
        <p:spPr>
          <a:xfrm>
            <a:off x="8640720" y="10800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5C36-0E65-4F6B-8A06-85E61F93AFB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missor e Portador -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médio da Tarifa de Anu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1520" y="1757520"/>
            <a:ext cx="88552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financiado no crédito rotativo sobre volume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9200" y="1819440"/>
            <a:ext cx="901404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enár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1280" y="1006200"/>
            <a:ext cx="90014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Comunidade Europeia e Austrá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Intervenção das autoridades locais na tarifa de intercâmbio (cartão de crédito e débito): tarifa definida pelo mercado acima da tarifa ótima (bem-estar social) e, por ser resultado de acordo coletivo entr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(desconto ou sobrepreço), quando justificado, cada país pode decidir por não permitir o sobre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E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regulação: cartão de dé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 de intercâmbio limitada a um valor máximo obtido pela soma de US$ 0,21 por transação mais 0,05% do valor da transação (outubro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proíbe arranjos de exclusividade de rede de processamento das transações (abril d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914400"/>
            <a:ext cx="9072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Objetivo do Banc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segurança e eficiência do Sistema de Pagamentos Brasil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do bem estar social na prestação de serviços de pag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studo marco legal sobre arranjo de pag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Competência CMN e Banc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601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Papeis complementares da Regulação e Auto-reg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1280" y="2857680"/>
            <a:ext cx="8998200" cy="16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rdilson Fernandes Quei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rdilson.queiroz@bcb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+55 (61) 3414-2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62080" indent="-262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m das exclusividades entre credenciadores e proprietários de esqu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Novos credenci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stema de controle de garan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gente neutro para a compensação e para a liquidação das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Desenvolvimento de esquema local de cartões de dé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Interoperabilidade parcial de serviço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na transparência das tari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to-regul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 – relatório da indústria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 na 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8"/>
          <p:cNvSpPr/>
          <p:nvPr/>
        </p:nvSpPr>
        <p:spPr>
          <a:xfrm>
            <a:off x="4592520" y="1087560"/>
            <a:ext cx="3942000" cy="452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731880" y="1109520"/>
            <a:ext cx="3890880" cy="450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cartões emitidos e ativos (m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9960" y="1139760"/>
            <a:ext cx="78436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quantidade de trans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0480" y="1036800"/>
            <a:ext cx="9043920" cy="52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modalidade do cartã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7748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forma de captura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parcelament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e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F7D4-2C3D-4361-B5D9-53EDD9429D69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0" y="3424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14560" y="1096920"/>
            <a:ext cx="68958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23920" y="3535200"/>
            <a:ext cx="6896160" cy="27514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0"/>
          <p:cNvSpPr/>
          <p:nvPr/>
        </p:nvSpPr>
        <p:spPr>
          <a:xfrm>
            <a:off x="1554120" y="2286000"/>
            <a:ext cx="61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2"/>
          <p:cNvSpPr/>
          <p:nvPr/>
        </p:nvSpPr>
        <p:spPr>
          <a:xfrm>
            <a:off x="1565280" y="4826160"/>
            <a:ext cx="61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cred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9AEA-F27B-4528-8D92-3EF0DAAD4925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27160" y="1087560"/>
            <a:ext cx="6869160" cy="269712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073160" y="3525840"/>
            <a:ext cx="6896160" cy="275112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7"/>
          <p:cNvSpPr/>
          <p:nvPr/>
        </p:nvSpPr>
        <p:spPr>
          <a:xfrm>
            <a:off x="0" y="34336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11"/>
          <p:cNvSpPr/>
          <p:nvPr/>
        </p:nvSpPr>
        <p:spPr>
          <a:xfrm>
            <a:off x="1533600" y="1930320"/>
            <a:ext cx="61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2"/>
          <p:cNvSpPr/>
          <p:nvPr/>
        </p:nvSpPr>
        <p:spPr>
          <a:xfrm>
            <a:off x="1533600" y="4592520"/>
            <a:ext cx="62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1:44:38Z</dcterms:created>
  <dc:creator>BACEN</dc:creator>
  <dc:description/>
  <dc:language>en-US</dc:language>
  <cp:lastModifiedBy>H</cp:lastModifiedBy>
  <cp:lastPrinted>2002-06-19T00:46:02Z</cp:lastPrinted>
  <dcterms:modified xsi:type="dcterms:W3CDTF">2012-07-05T14:41:24Z</dcterms:modified>
  <cp:revision>3090</cp:revision>
  <dc:subject/>
  <dc:title>Slide sem título</dc:title>
</cp:coreProperties>
</file>